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F2024-FAA6-40E8-9541-BF6BDF503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74271-4FAB-4BD9-87C5-56AFD509C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33AD9-0EAE-42F0-AE83-C11FA5ACF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159C5-4AD6-41B2-BCE3-2BC8403A3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441FC2-BA38-48D4-9611-26DF2888DE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C6FDB-EF55-48CD-863F-B75C5336C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213B4-5EDF-4139-AA58-0FF4E6913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E6538-6D00-4F06-8A74-A371C6782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E17D9-8804-41B3-8D55-C50D10767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F8713-43B2-48B1-B2CC-AFB0A1DE0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AFAA9-7B13-4DDF-B423-DBDFFE855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11DE8-9265-4583-A6EE-276F6EBDE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91758-AD5C-403C-83D6-7422BFA39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DFF90-E0D6-42FC-9C41-688F61DE4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97CF3-5660-4031-9CE3-D5B96E3135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E40887-9EE0-431E-9357-C04E127E1A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3D55DD-6B00-47FF-93C2-05485640F9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B0C78D-115B-4D83-BE63-57E4A4F277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28D351-7B57-4284-B755-9F0541929F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36B27D-EB8E-4960-993C-00EE7A3DE2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5C9E63-CA3F-4DC1-B9F1-0D8E5FFF0E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F8A886-8CA1-45C9-B885-126C835559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08A04-CBC1-4BA8-92B6-4D5B25E0F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2F387F-1732-4464-ABA7-9BB9C15542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5F83E2-8A80-47AD-8085-482BF99C01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EA54FF-CC7A-4539-A35D-9F58B8938C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97D05D-79A0-4454-9BC5-DD51966CC0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1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64F0BB-2F6A-40A2-B912-E1457C9547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7F9CE4-3F70-4AD8-9A29-6ED0D26680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39EB7D-C53E-4C28-A3D7-0D43B86F4C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5369E7-5C3F-4E47-8459-C4DAE9D119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3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0DC843-AF06-4319-81FC-BF2DED66B4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714240-54A8-4682-A8A2-44274EB13F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CE9B8-5225-4A41-A8FA-3C76D0819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BA76A9-5559-4CBC-B4D1-49B4DA2FCC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C513ED-25A7-49F8-B0B5-938A9626FC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E43BE9-4111-4E60-993B-18F1F63B45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6C7DD6-F0E0-401C-8CBB-810E7A7492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DC0690-F3E6-4E46-8DD2-5DDCB958BC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DA6E74-9FBD-4AFB-A4E0-28F4A99C17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6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F81EBC-BD27-448D-A61D-D8E77BE725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779091-43D9-4763-ACAA-EFB3A260CC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6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312091-E176-4DEA-8F94-76E4D89703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8806F1-CEC0-4ADA-BF27-62221BABEC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76D91-3526-4DB6-ACCA-5E994E590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8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B5F2BF-4DE5-49CC-BF2F-53402623A8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F3982A-2772-4E3A-8E76-043DB044E9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9552CC-36AC-4FEA-A9B5-D8DA045469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3E97B5-0864-4C69-A8BE-D066A5A851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669C01-DF8B-40C1-B9D3-09F671DBC6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6E7622-28AE-4B6A-931B-CB3F42A025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6B02FF-5FD0-428F-97DB-6E9F2446E0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90D45F-74FF-4441-BB09-6D1BED0932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0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C033E7-A7FE-4AE5-92E5-BC7635F9D4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B0EE1C-D7A6-4C63-9B02-FB23279648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2B701-607A-4D8E-8786-1C9EA6B11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1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E993B5-51C7-419D-87CA-E69B0A59FE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DB52B5-7F57-401F-9129-6CCFF7E59B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C1822E-75EC-4DAE-96AB-A5FC19346E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2B3C76-6B36-4DB5-9E70-2DBDF08056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8195C7-66D3-42B9-943C-3BB9B5DB7E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364912-4F04-4C3B-824B-71B891E639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C6C70A-51D1-4E50-A813-BD4653D2F5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E23323-7F42-4BD0-BE75-9FB48E192F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D3E8DB-B21B-4183-B0C7-478A79E8BC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8089CC-6A2C-4BEC-887A-56E2A1AD57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34F03-3A8D-4050-9A98-B2DFCB703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B73A05-5E9E-47BF-B755-589C4246BA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F4AFC3-E509-4945-A8F8-2092DC9B20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1CDC31-7F00-471D-92C1-1FF6350871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EDE630-9A06-48C9-9912-7B0BFC1D6E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45847C-430D-4048-AC0D-DCF16E16DA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F3F9DE-E62E-470F-91D8-99374FB1E4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AC9EF3-A3B6-46B8-8DCA-4716DADCF0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86DDA9-CDB1-454D-965C-8781B52DC5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33797E-C853-4942-AE49-4EEC5EF0FF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737FAA-0A68-4747-B7F4-A85E14AA9E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409A4-1114-4DA3-887D-42B0EF995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0B73A9-F05B-45CC-969B-8DBFDDE2C8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F2A155-75DF-4E38-94DE-FAD79EFECD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790ABD-BCC0-4E0C-AA35-6E7F8EBB1E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C7EBD2-1886-4BC3-9362-7D724C2CE5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B55B3B-2FD9-4A18-BDB7-094776E21C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E2BE50-0E5D-4231-B01F-298DA4BCDA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F15365-C10C-4F5C-B585-BD01DC7BC4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D4DEB8-FFF7-462E-AD3A-B360D00D11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0578B4-5848-43C2-AA75-93E52C68DE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B813E6-D4B0-420D-B6CE-44614AE7A6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BF3DB-F2D0-4883-BC53-8400916BC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BE69D6-CF59-46C6-9C70-850264A489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36B82F-8338-4D11-A26C-6814154F81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F6B39F-3C5D-4011-89D8-FCFC30BB0F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EA642B-A3FB-4DA6-9D75-3716C8441A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6050DF-6ED8-4604-81FC-FF8C78679D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96C370-38B9-4CE1-B50C-C5FC48D695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1FA6BF-1633-49A4-ABB5-1E5A2D535FA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6F5B9-9A83-4768-9BD2-13BAC4EB2300}"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56827-9800-4332-A997-D9EACD730F37}"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0" y="0"/>
            <a:ext cx="2666880" cy="6858000"/>
            <a:chOff x="0" y="0"/>
            <a:chExt cx="2666880" cy="6858000"/>
          </a:xfrm>
        </p:grpSpPr>
        <p:sp>
          <p:nvSpPr>
            <p:cNvPr id="90"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 descr=""/>
            <p:cNvPicPr/>
            <p:nvPr/>
          </p:nvPicPr>
          <p:blipFill>
            <a:blip r:embed="rId2"/>
            <a:stretch/>
          </p:blipFill>
          <p:spPr>
            <a:xfrm>
              <a:off x="0" y="0"/>
              <a:ext cx="2139840" cy="6858000"/>
            </a:xfrm>
            <a:prstGeom prst="rect">
              <a:avLst/>
            </a:prstGeom>
            <a:ln w="0">
              <a:noFill/>
            </a:ln>
          </p:spPr>
        </p:pic>
      </p:grpSp>
      <p:sp>
        <p:nvSpPr>
          <p:cNvPr id="9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93"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 name="PlaceHolder 3"/>
          <p:cNvSpPr>
            <a:spLocks noGrp="1"/>
          </p:cNvSpPr>
          <p:nvPr>
            <p:ph type="dt" idx="7"/>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6" name="PlaceHolder 5"/>
          <p:cNvSpPr>
            <a:spLocks noGrp="1"/>
          </p:cNvSpPr>
          <p:nvPr>
            <p:ph type="sldNum" idx="9"/>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C7CB2-8632-496D-BA18-A044CD3BFC4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0" y="0"/>
            <a:ext cx="9144000" cy="6862680"/>
          </a:xfrm>
          <a:prstGeom prst="rect">
            <a:avLst/>
          </a:prstGeom>
          <a:ln w="0">
            <a:noFill/>
          </a:ln>
        </p:spPr>
      </p:pic>
      <p:sp>
        <p:nvSpPr>
          <p:cNvPr id="134" name="PlaceHolder 1"/>
          <p:cNvSpPr>
            <a:spLocks noGrp="1"/>
          </p:cNvSpPr>
          <p:nvPr>
            <p:ph type="dt" idx="10"/>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36" name="PlaceHolder 3"/>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124A4-9447-4AF4-8C20-4EC9DE74393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7"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7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6"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D0E1D-BD8F-410D-8727-E174BD568C0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79"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218"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219" name="PlaceHolder 3"/>
          <p:cNvSpPr>
            <a:spLocks noGrp="1"/>
          </p:cNvSpPr>
          <p:nvPr>
            <p:ph type="ftr" idx="17"/>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220"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FBE0C-1369-422A-A8F7-112F8F137A7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221"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6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62" name="PlaceHolder 3"/>
          <p:cNvSpPr>
            <a:spLocks noGrp="1"/>
          </p:cNvSpPr>
          <p:nvPr>
            <p:ph type="dt" idx="19"/>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263" name="PlaceHolder 4"/>
          <p:cNvSpPr>
            <a:spLocks noGrp="1"/>
          </p:cNvSpPr>
          <p:nvPr>
            <p:ph type="ftr" idx="20"/>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264" name="PlaceHolder 5"/>
          <p:cNvSpPr>
            <a:spLocks noGrp="1"/>
          </p:cNvSpPr>
          <p:nvPr>
            <p:ph type="sldNum" idx="21"/>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E87CF-4EFD-4377-919A-7AF8FF82A4C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265"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7" name=""/>
          <p:cNvGrpSpPr/>
          <p:nvPr/>
        </p:nvGrpSpPr>
        <p:grpSpPr>
          <a:xfrm>
            <a:off x="7920" y="5540400"/>
            <a:ext cx="1784520" cy="1246320"/>
            <a:chOff x="7920" y="5540400"/>
            <a:chExt cx="1784520" cy="1246320"/>
          </a:xfrm>
        </p:grpSpPr>
        <p:sp>
          <p:nvSpPr>
            <p:cNvPr id="268"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7" name=""/>
            <p:cNvGrpSpPr/>
            <p:nvPr/>
          </p:nvGrpSpPr>
          <p:grpSpPr>
            <a:xfrm>
              <a:off x="7920" y="5540400"/>
              <a:ext cx="1784520" cy="1238400"/>
              <a:chOff x="7920" y="5540400"/>
              <a:chExt cx="1784520" cy="1238400"/>
            </a:xfrm>
          </p:grpSpPr>
          <p:grpSp>
            <p:nvGrpSpPr>
              <p:cNvPr id="278" name=""/>
              <p:cNvGrpSpPr/>
              <p:nvPr/>
            </p:nvGrpSpPr>
            <p:grpSpPr>
              <a:xfrm>
                <a:off x="792000" y="5654520"/>
                <a:ext cx="870120" cy="1124280"/>
                <a:chOff x="792000" y="5654520"/>
                <a:chExt cx="870120" cy="1124280"/>
              </a:xfrm>
            </p:grpSpPr>
            <p:sp>
              <p:nvSpPr>
                <p:cNvPr id="279"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5" name=""/>
              <p:cNvGrpSpPr/>
              <p:nvPr/>
            </p:nvGrpSpPr>
            <p:grpSpPr>
              <a:xfrm>
                <a:off x="7920" y="5540400"/>
                <a:ext cx="1784520" cy="1076400"/>
                <a:chOff x="7920" y="5540400"/>
                <a:chExt cx="1784520" cy="1076400"/>
              </a:xfrm>
            </p:grpSpPr>
            <p:sp>
              <p:nvSpPr>
                <p:cNvPr id="286"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94" name=""/>
          <p:cNvGrpSpPr/>
          <p:nvPr/>
        </p:nvGrpSpPr>
        <p:grpSpPr>
          <a:xfrm>
            <a:off x="8680320" y="2116080"/>
            <a:ext cx="385920" cy="4308480"/>
            <a:chOff x="8680320" y="2116080"/>
            <a:chExt cx="385920" cy="4308480"/>
          </a:xfrm>
        </p:grpSpPr>
        <p:sp>
          <p:nvSpPr>
            <p:cNvPr id="295"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7" name=""/>
          <p:cNvGrpSpPr/>
          <p:nvPr/>
        </p:nvGrpSpPr>
        <p:grpSpPr>
          <a:xfrm>
            <a:off x="7171560" y="-87480"/>
            <a:ext cx="2427480" cy="2247120"/>
            <a:chOff x="7171560" y="-87480"/>
            <a:chExt cx="2427480" cy="2247120"/>
          </a:xfrm>
        </p:grpSpPr>
        <p:grpSp>
          <p:nvGrpSpPr>
            <p:cNvPr id="298" name=""/>
            <p:cNvGrpSpPr/>
            <p:nvPr/>
          </p:nvGrpSpPr>
          <p:grpSpPr>
            <a:xfrm>
              <a:off x="7171560" y="-87480"/>
              <a:ext cx="2427480" cy="2247120"/>
              <a:chOff x="7171560" y="-87480"/>
              <a:chExt cx="2427480" cy="2247120"/>
            </a:xfrm>
          </p:grpSpPr>
          <p:sp>
            <p:nvSpPr>
              <p:cNvPr id="299"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0" name=""/>
              <p:cNvGrpSpPr/>
              <p:nvPr/>
            </p:nvGrpSpPr>
            <p:grpSpPr>
              <a:xfrm>
                <a:off x="7171560" y="-87480"/>
                <a:ext cx="2427480" cy="2247120"/>
                <a:chOff x="7171560" y="-87480"/>
                <a:chExt cx="2427480" cy="2247120"/>
              </a:xfrm>
            </p:grpSpPr>
            <p:sp>
              <p:nvSpPr>
                <p:cNvPr id="301"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348" name="PlaceHolder 2"/>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49"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350"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C17C5-C1A1-4EC4-B56B-7FFC1A5FBC1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351" name=""/>
          <p:cNvGrpSpPr/>
          <p:nvPr/>
        </p:nvGrpSpPr>
        <p:grpSpPr>
          <a:xfrm>
            <a:off x="195120" y="235080"/>
            <a:ext cx="3787920" cy="1778040"/>
            <a:chOff x="195120" y="235080"/>
            <a:chExt cx="3787920" cy="1778040"/>
          </a:xfrm>
        </p:grpSpPr>
        <p:sp>
          <p:nvSpPr>
            <p:cNvPr id="352"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5" name=""/>
            <p:cNvGrpSpPr/>
            <p:nvPr/>
          </p:nvGrpSpPr>
          <p:grpSpPr>
            <a:xfrm>
              <a:off x="195120" y="235080"/>
              <a:ext cx="3787920" cy="1716120"/>
              <a:chOff x="195120" y="235080"/>
              <a:chExt cx="3787920" cy="1716120"/>
            </a:xfrm>
          </p:grpSpPr>
          <p:sp>
            <p:nvSpPr>
              <p:cNvPr id="356"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61" name=""/>
          <p:cNvGrpSpPr/>
          <p:nvPr/>
        </p:nvGrpSpPr>
        <p:grpSpPr>
          <a:xfrm>
            <a:off x="7797600" y="4318560"/>
            <a:ext cx="979920" cy="1159560"/>
            <a:chOff x="7797600" y="4318560"/>
            <a:chExt cx="979920" cy="1159560"/>
          </a:xfrm>
        </p:grpSpPr>
        <p:sp>
          <p:nvSpPr>
            <p:cNvPr id="362"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5" name=""/>
            <p:cNvGrpSpPr/>
            <p:nvPr/>
          </p:nvGrpSpPr>
          <p:grpSpPr>
            <a:xfrm>
              <a:off x="7797600" y="4318560"/>
              <a:ext cx="979920" cy="1159560"/>
              <a:chOff x="7797600" y="4318560"/>
              <a:chExt cx="979920" cy="1159560"/>
            </a:xfrm>
          </p:grpSpPr>
          <p:sp>
            <p:nvSpPr>
              <p:cNvPr id="366"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71"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86.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nivel.nl/content/photo_lg_athens.jpg&amp;imgrefurl=http://www.nivel.nl/oc2/page.asp%3Fpageid%3D10116&amp;usg=__YrGornSWVC9YqbNMd2_LJ_DLphU=&amp;h=400&amp;w=599&amp;sz=75&amp;hl=en&amp;start=11&amp;um=1&amp;tbnid=G6Jag3y1BsI6VM:&amp;tbnh=90&amp;tbnw=135&amp;prev=/images%3Fq%3Dathens%26hl%3Den%26safe%3Dactive%26rls%3Dcom.microsoft:en-us%26rlz%3D1I7GPEA_en%26um%3D1"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hyperlink" Target="http://rds.yahoo.com/_ylt=A0WTb_mI1vpK7boATG6JzbkF;_ylu=X3oDMTBrc291OXZ0BHBvcwMyOTIEc2VjA3NyBHZ0aWQD/SIG=1iqbiin7f/EXP=1258039304/**http%3A//images.search.yahoo.com/images/view%3Fback=http%253A%252F%252Fimages.search.yahoo.com%252Fsearch%252Fimages%253Fp%253Ddraconian%252Blaw%2526b%253D281%2526ni%253D20%2526vm%253Dr%2526pstart%253D1%26w=214%26h=136%26imgurl=static.flickr.com%252F3317%252F3504934210_366942f976.jpg%26rurl=http%253A%252F%252Fwww.flickr.com%252Fphotos%252F21845095%2540N06%252F3504934210%252F%26size=17k%26name=Ministro%2Bbrit%25C3%25A1ni...%26p=draconian%2Blaw%26oid=2e74c6edd6f4d11c%26fr2=%26fusr=jungledrumso...%26no=292%26tt=323%26b=281%26ni=20%26sigr=11lnkrv60%26sigi=11g2i89bg%26sigb=12mvg616s"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southasia.oneworld.net/todaysheadlines/living-under-the-shadow-of-draconian-law/?searchterm" TargetMode="External"/><Relationship Id="rId2" Type="http://schemas.openxmlformats.org/officeDocument/2006/relationships/hyperlink" Target="http://en.wikipedia.org/wiki/Draco_(lawgiver)"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4763" r="0" b="11917"/>
          <a:stretch/>
        </p:blipFill>
        <p:spPr>
          <a:xfrm>
            <a:off x="6705720" y="152280"/>
            <a:ext cx="2438280" cy="2438640"/>
          </a:xfrm>
          <a:prstGeom prst="rect">
            <a:avLst/>
          </a:prstGeom>
          <a:ln w="0">
            <a:noFill/>
          </a:ln>
        </p:spPr>
      </p:pic>
      <p:sp>
        <p:nvSpPr>
          <p:cNvPr id="411" name="PlaceHolder 1"/>
          <p:cNvSpPr>
            <a:spLocks noGrp="1"/>
          </p:cNvSpPr>
          <p:nvPr>
            <p:ph type="title"/>
          </p:nvPr>
        </p:nvSpPr>
        <p:spPr>
          <a:xfrm>
            <a:off x="685800" y="761760"/>
            <a:ext cx="7772400" cy="21272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Draconian Law</a:t>
            </a:r>
            <a:endParaRPr b="0" lang="en-US" sz="4400" spc="-1" strike="noStrike">
              <a:solidFill>
                <a:srgbClr val="ff0000"/>
              </a:solidFill>
              <a:latin typeface="Comic Sans MS"/>
            </a:endParaRPr>
          </a:p>
        </p:txBody>
      </p:sp>
      <p:sp>
        <p:nvSpPr>
          <p:cNvPr id="412" name="PlaceHolder 2"/>
          <p:cNvSpPr>
            <a:spLocks noGrp="1"/>
          </p:cNvSpPr>
          <p:nvPr>
            <p:ph type="subTitle"/>
          </p:nvPr>
        </p:nvSpPr>
        <p:spPr>
          <a:xfrm>
            <a:off x="1447920" y="3200400"/>
            <a:ext cx="640080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y: Breanna Payne, Laura Ellis &amp; Jeffrey Scrogum </a:t>
            </a:r>
            <a:endParaRPr b="0" lang="en-US" sz="2800" spc="-1" strike="noStrike">
              <a:solidFill>
                <a:srgbClr val="000000"/>
              </a:solidFill>
              <a:latin typeface="Comic Sans MS"/>
            </a:endParaRPr>
          </a:p>
        </p:txBody>
      </p:sp>
      <p:pic>
        <p:nvPicPr>
          <p:cNvPr id="413" name="" descr=""/>
          <p:cNvPicPr/>
          <p:nvPr/>
        </p:nvPicPr>
        <p:blipFill>
          <a:blip r:embed="rId2"/>
          <a:stretch/>
        </p:blipFill>
        <p:spPr>
          <a:xfrm>
            <a:off x="533520" y="4114800"/>
            <a:ext cx="8096040" cy="2743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13"/>
                                        </p:tgtEl>
                                        <p:attrNameLst>
                                          <p:attrName>style.visibility</p:attrName>
                                        </p:attrNameLst>
                                      </p:cBhvr>
                                      <p:to>
                                        <p:strVal val="visible"/>
                                      </p:to>
                                    </p:set>
                                    <p:animEffect filter="box(in)" transition="in">
                                      <p:cBhvr additive="repl">
                                        <p:cTn id="7" dur="500"/>
                                        <p:tgtEl>
                                          <p:spTgt spid="41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6">
                                  <p:stCondLst>
                                    <p:cond delay="0"/>
                                  </p:stCondLst>
                                  <p:childTnLst>
                                    <p:animScale>
                                      <p:cBhvr>
                                        <p:cTn id="11" dur="2000" fill="hold"/>
                                        <p:tgtEl>
                                          <p:spTgt spid="41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 descr="">
            <a:hlinkClick r:id="rId1"/>
          </p:cNvPr>
          <p:cNvPicPr/>
          <p:nvPr/>
        </p:nvPicPr>
        <p:blipFill>
          <a:blip r:embed="rId2"/>
          <a:stretch/>
        </p:blipFill>
        <p:spPr>
          <a:xfrm>
            <a:off x="0" y="0"/>
            <a:ext cx="9144000" cy="6858000"/>
          </a:xfrm>
          <a:prstGeom prst="rect">
            <a:avLst/>
          </a:prstGeom>
          <a:ln w="0">
            <a:noFill/>
          </a:ln>
        </p:spPr>
      </p:pic>
      <p:sp>
        <p:nvSpPr>
          <p:cNvPr id="415"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hat is Draconian Law?</a:t>
            </a:r>
            <a:endParaRPr b="0" lang="en-US" sz="4400" spc="-1" strike="noStrike">
              <a:solidFill>
                <a:srgbClr val="999900"/>
              </a:solidFill>
              <a:latin typeface="Garamond"/>
            </a:endParaRPr>
          </a:p>
        </p:txBody>
      </p:sp>
      <p:sp>
        <p:nvSpPr>
          <p:cNvPr id="416" name="PlaceHolder 2"/>
          <p:cNvSpPr>
            <a:spLocks noGrp="1"/>
          </p:cNvSpPr>
          <p:nvPr>
            <p:ph/>
          </p:nvPr>
        </p:nvSpPr>
        <p:spPr>
          <a:xfrm>
            <a:off x="457200" y="1447920"/>
            <a:ext cx="8229600" cy="5029200"/>
          </a:xfrm>
          <a:prstGeom prst="rect">
            <a:avLst/>
          </a:prstGeom>
          <a:gradFill rotWithShape="0">
            <a:gsLst>
              <a:gs pos="0">
                <a:srgbClr val="ff9900">
                  <a:alpha val="29019"/>
                </a:srgbClr>
              </a:gs>
              <a:gs pos="100000">
                <a:srgbClr val="fec774"/>
              </a:gs>
            </a:gsLst>
            <a:lin ang="5400000"/>
          </a:gradFill>
          <a:ln w="0">
            <a:noFill/>
          </a:ln>
        </p:spPr>
        <p:txBody>
          <a:bodyPr lIns="90000" rIns="90000" tIns="46800" bIns="46800" anchor="t">
            <a:normAutofit/>
          </a:bodyPr>
          <a:p>
            <a:pPr marL="343080" indent="-343080">
              <a:lnSpc>
                <a:spcPct val="90000"/>
              </a:lnSpc>
              <a:spcBef>
                <a:spcPts val="499"/>
              </a:spcBef>
              <a:buClr>
                <a:srgbClr val="6666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Verdana"/>
              </a:rPr>
              <a:t>Draco was the first legislator of ancient Athens, around 622 B.C.E.</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Verdana"/>
              </a:rPr>
              <a:t>Draconian Law said that the punishment for almost every single crime was death.</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Verdana"/>
              </a:rPr>
              <a:t>When questioned on his cruelty, he said that he considered these lesser crimes to deserve it, and he had no greater punishment for more important ones.</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raconian Law was made because nobles were changing the punishments for each crime based on what they considered correct. After Draco made them, the codified laws were posted for everyone to see. The punishment for almost every offense was death. From stealing to homicide, he believed they almost always deserved death.</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414"/>
                                        </p:tgtEl>
                                        <p:attrNameLst>
                                          <p:attrName>style.visibility</p:attrName>
                                        </p:attrNameLst>
                                      </p:cBhvr>
                                      <p:to>
                                        <p:strVal val="visible"/>
                                      </p:to>
                                    </p:set>
                                    <p:animEffect filter="strips(downLeft)" transition="in">
                                      <p:cBhvr additive="repl">
                                        <p:cTn id="18" dur="500"/>
                                        <p:tgtEl>
                                          <p:spTgt spid="41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4" presetSubtype="2">
                                  <p:stCondLst>
                                    <p:cond delay="0"/>
                                  </p:stCondLst>
                                  <p:childTnLst>
                                    <p:anim calcmode="lin" valueType="num" to="1.5">
                                      <p:cBhvr additive="repl">
                                        <p:cTn id="22" dur="2000" fill="hold"/>
                                        <p:tgtEl>
                                          <p:spTgt spid="415"/>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685800" y="304920"/>
            <a:ext cx="7229520" cy="6546600"/>
          </a:xfrm>
          <a:prstGeom prst="rect">
            <a:avLst/>
          </a:prstGeom>
          <a:ln w="0">
            <a:noFill/>
          </a:ln>
        </p:spPr>
      </p:pic>
      <p:sp>
        <p:nvSpPr>
          <p:cNvPr id="4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Why Is Draconian Law Bad?</a:t>
            </a:r>
            <a:endParaRPr b="0" lang="en-US" sz="4400" spc="-1" strike="noStrike">
              <a:solidFill>
                <a:srgbClr val="999900"/>
              </a:solidFill>
              <a:latin typeface="Garamond"/>
            </a:endParaRPr>
          </a:p>
        </p:txBody>
      </p:sp>
      <p:sp>
        <p:nvSpPr>
          <p:cNvPr id="419"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t orders people to be killed.</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punishment for almost every offense was death.</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laws were written in “blood” for everyone to see.</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sically Draconian Law was made by Draco, an ancient Greek legislator, who wrote a set of laws (“in blood”) that were posted for everyone to see. The punishment for almost every offense was death. From stealing to homicide, he believed they almost always deserved death.</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mph" presetID="6">
                                  <p:stCondLst>
                                    <p:cond delay="0"/>
                                  </p:stCondLst>
                                  <p:childTnLst>
                                    <p:animScale>
                                      <p:cBhvr>
                                        <p:cTn id="28" dur="2000" fill="hold"/>
                                        <p:tgtEl>
                                          <p:spTgt spid="41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s of Draconian Law</a:t>
            </a:r>
            <a:endParaRPr b="0" lang="en-US" sz="4200" spc="-1" strike="noStrike">
              <a:solidFill>
                <a:srgbClr val="006633"/>
              </a:solidFill>
              <a:latin typeface="Garamond"/>
            </a:endParaRPr>
          </a:p>
        </p:txBody>
      </p:sp>
      <p:sp>
        <p:nvSpPr>
          <p:cNvPr id="4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tealing an apple from an orchard would result in death.</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y debtor whose status was lower than that of his creditor was forced into slavery. </a:t>
            </a:r>
            <a:endParaRPr b="0" lang="en-US" sz="34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 death penalty was the punishment for even minor offenses.</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Arial"/>
              </a:rPr>
              <a:t>Draconian Law Now</a:t>
            </a:r>
            <a:endParaRPr b="0" lang="en-US" sz="3600" spc="-1" strike="noStrike">
              <a:solidFill>
                <a:srgbClr val="8c0039"/>
              </a:solidFill>
              <a:latin typeface="Arial"/>
            </a:endParaRPr>
          </a:p>
        </p:txBody>
      </p:sp>
      <p:sp>
        <p:nvSpPr>
          <p:cNvPr id="423" name="PlaceHolder 2"/>
          <p:cNvSpPr>
            <a:spLocks noGrp="1"/>
          </p:cNvSpPr>
          <p:nvPr>
            <p:ph/>
          </p:nvPr>
        </p:nvSpPr>
        <p:spPr>
          <a:xfrm>
            <a:off x="2438280" y="1600200"/>
            <a:ext cx="6400800" cy="4495680"/>
          </a:xfrm>
          <a:prstGeom prst="rect">
            <a:avLst/>
          </a:prstGeom>
          <a:gradFill rotWithShape="0">
            <a:gsLst>
              <a:gs pos="0">
                <a:srgbClr val="ff3399"/>
              </a:gs>
              <a:gs pos="50000">
                <a:srgbClr val="751746"/>
              </a:gs>
              <a:gs pos="100000">
                <a:srgbClr val="ff3399"/>
              </a:gs>
            </a:gsLst>
            <a:lin ang="13500000"/>
          </a:gradFill>
          <a:ln w="9360">
            <a:solidFill>
              <a:srgbClr val="000000"/>
            </a:solidFill>
            <a:miter/>
          </a:ln>
        </p:spPr>
        <p:txBody>
          <a:bodyPr lIns="90000" rIns="90000" tIns="46800" bIns="46800" anchor="t">
            <a:normAutofit/>
          </a:bodyPr>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rding to the article “Living Under the Shadow of Draconian Law”, this strict form of discipline is still used today.</a:t>
            </a:r>
            <a:endParaRPr b="0" lang="en-US" sz="24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Rights activists say that militants have carried out torture, killings, indiscriminately used bombs and land mines, engaged in forced recruitment, and conducted widespread extor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the same time, the Indian government has failed to curb abuses by its own security forces, and extrajudicial executions and torture of detainees, particularly suspected militants and their supporters, remains commo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 descr="Go to fullsize image">
            <a:hlinkClick r:id="rId1"/>
          </p:cNvPr>
          <p:cNvPicPr/>
          <p:nvPr/>
        </p:nvPicPr>
        <p:blipFill>
          <a:blip r:embed="rId2">
            <a:lum bright="16000"/>
          </a:blip>
          <a:stretch/>
        </p:blipFill>
        <p:spPr>
          <a:xfrm>
            <a:off x="0" y="0"/>
            <a:ext cx="9144000" cy="6858000"/>
          </a:xfrm>
          <a:prstGeom prst="rect">
            <a:avLst/>
          </a:prstGeom>
          <a:ln w="0">
            <a:noFill/>
          </a:ln>
        </p:spPr>
      </p:pic>
      <p:sp>
        <p:nvSpPr>
          <p:cNvPr id="425" name="PlaceHolder 1"/>
          <p:cNvSpPr>
            <a:spLocks noGrp="1"/>
          </p:cNvSpPr>
          <p:nvPr>
            <p:ph/>
          </p:nvPr>
        </p:nvSpPr>
        <p:spPr>
          <a:xfrm>
            <a:off x="457200" y="1295280"/>
            <a:ext cx="8229600" cy="4530960"/>
          </a:xfrm>
          <a:prstGeom prst="rect">
            <a:avLst/>
          </a:prstGeom>
          <a:noFill/>
          <a:ln w="0">
            <a:noFill/>
          </a:ln>
        </p:spPr>
        <p:txBody>
          <a:bodyPr lIns="90000" rIns="90000" tIns="46800" bIns="46800"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Punishments are strict and way too harsh for the petty crimes that were committed.</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Killing family members effects the whole family. For instance, killing a father could leave a family homeless and starving.</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People don’t deserve to be killed.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They try to make people fear them. Making people fear you puts them in a constant state of panic or worry.</a:t>
            </a:r>
            <a:endParaRPr b="0" lang="en-US" sz="2800" spc="-1" strike="noStrike">
              <a:solidFill>
                <a:srgbClr val="000000"/>
              </a:solidFill>
              <a:latin typeface="Verdana"/>
            </a:endParaRPr>
          </a:p>
        </p:txBody>
      </p:sp>
      <p:sp>
        <p:nvSpPr>
          <p:cNvPr id="426" name=""/>
          <p:cNvSpPr txBox="1"/>
          <p:nvPr/>
        </p:nvSpPr>
        <p:spPr>
          <a:xfrm>
            <a:off x="762120" y="228600"/>
            <a:ext cx="746748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e're against Draconian Law becaus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28"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4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99"/>
                </a:solidFill>
                <a:latin typeface="Garamond"/>
              </a:rPr>
              <a:t>References</a:t>
            </a:r>
            <a:endParaRPr b="0" lang="en-US" sz="4400" spc="-1" strike="noStrike">
              <a:solidFill>
                <a:srgbClr val="999900"/>
              </a:solidFill>
              <a:latin typeface="Garamond"/>
            </a:endParaRPr>
          </a:p>
        </p:txBody>
      </p:sp>
      <p:sp>
        <p:nvSpPr>
          <p:cNvPr id="430"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Verdana"/>
                <a:hlinkClick r:id="rId1"/>
              </a:rPr>
              <a:t>http://southasia.oneworld.net/todaysheadlines/living-under-the-shadow-of-draconian-law/?searchterm</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Verdana"/>
                <a:hlinkClick r:id="rId2"/>
              </a:rPr>
              <a:t>http://en.wikipedia.org/wiki/Draco_(lawgiver)</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http://www.publicbookshelf.com/public_html</a:t>
            </a:r>
            <a:br>
              <a:rPr sz="2400"/>
            </a:br>
            <a:r>
              <a:rPr b="0" lang="en-US" sz="2400" spc="-1" strike="noStrike">
                <a:solidFill>
                  <a:srgbClr val="0000ff"/>
                </a:solidFill>
                <a:latin typeface="Verdana"/>
              </a:rPr>
              <a:t>/The_Story_of_the_Greatest_Nations_and_the_Worlds</a:t>
            </a:r>
            <a:br>
              <a:rPr sz="2400"/>
            </a:br>
            <a:r>
              <a:rPr b="0" lang="en-US" sz="2400" spc="-1" strike="noStrike">
                <a:solidFill>
                  <a:srgbClr val="0000ff"/>
                </a:solidFill>
                <a:latin typeface="Verdana"/>
              </a:rPr>
              <a:t>_Famous_Events_Vol_1/whatisd_bei.html</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Verdana"/>
              </a:rPr>
              <a:t>http://images.google.com/imghp?hl=en&amp;tab=w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16:20:55Z</dcterms:created>
  <dc:creator>ECPS-User</dc:creator>
  <dc:description/>
  <dc:language>en-US</dc:language>
  <cp:lastModifiedBy>ECPS-User</cp:lastModifiedBy>
  <dcterms:modified xsi:type="dcterms:W3CDTF">2009-11-11T15:51:26Z</dcterms:modified>
  <cp:revision>10</cp:revision>
  <dc:subject/>
  <dc:title>Draconian Law</dc:title>
</cp:coreProperties>
</file>